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9F85-C119-4059-BF38-82A219E5D6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807-726D-4AAD-9B3C-E5EAC9A876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11D-C13B-428F-9EA9-665258EE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758-7D9B-4F72-B403-AC10012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9D3-0FDB-4823-9E12-29F7B76B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7E7-A7B2-4B0E-BE81-824411A4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4DE-DDC9-45E1-BE2A-A9A03306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7F88-5F67-4DBF-B6C7-6AC629DB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57D8-86F2-44D9-93E5-BECF3CE3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DC82-FA0E-4EDC-8B27-8AA666C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00E7-E225-4050-A686-99C21C61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3E59-EEB4-47AC-BE52-9FDAF501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9621-B099-42B3-B608-0A7A8D7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46C-3351-4486-B847-86D0995F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E5F9-2F70-4E81-B84C-8A09CF5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EBC1-73C0-4603-8BC4-C53F380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6DA-4D1A-4E52-B559-60D466C5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498A-C4CC-437C-85A9-BED0AEBD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4CC-F018-48A6-910B-55CD6C99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2216-DE61-43D4-9489-1190F4A2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F5FF-B46E-4409-9E12-2EDC217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08D8-6245-4FDD-BCFB-EBF84B6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2F18-97DB-41EF-80C2-9A72610F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A8D2-942F-4354-9F7D-9CDFE8D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649-6EBB-4075-BC87-5A2CE533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97D7-A926-4169-8546-634E19C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A5FD-1E46-483C-AF85-72AEDD3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E825-4CDA-4F33-AF4A-A9557AA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CB39-270E-4264-8959-6B3CBBE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31C6-3710-4EF3-A37C-74FD5833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A625-6641-4704-A59B-31575CEF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D3C0-84F4-4F1B-A08C-FD77295E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6A81-96D5-4AB9-A346-7F4B7EF7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2F04-E8ED-4F52-B446-62671603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4060-65BA-4795-9CE4-E60293B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38B-AF19-43DA-B1F1-E8B986C9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E7C4-08D8-4A2A-8C2B-311F0313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3B3C-A3D8-42C2-AAAE-4C8F315D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ECBF-44C3-489C-8E51-FA04D5E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ED7B-3223-4A26-8966-CD80948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A07B-15BE-4D24-BDD9-9693BA2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2199-18E8-48DE-BA09-DF354CB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C4EE-9C15-4A20-A1D8-EF4B1B5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1DDF-DC71-42D4-B918-A7BE110E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B292-4998-42FC-A72B-3757877B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660-0D89-42C0-92F3-67CD53BC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A5A-76FC-4F2D-87B3-3B361C2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29B-3825-4FA0-A70E-D23B2EDF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55C-82C6-4DBC-8E3A-387444D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27E-E827-4689-BAAF-2F0734F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8DA7-320E-4EDA-88F3-C96A6FF21A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7DA4-ECCF-4FD7-927A-777C91F0B5E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036D-8DA3-4969-B5C8-A39E95772E9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B0E-1483-4071-9CF3-F94B3BE3E0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-96840" y="2279520"/>
            <a:ext cx="90216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My Job . . . .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5800" y="1357200"/>
            <a:ext cx="77724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provide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you with resources; the contents of the  course and activitie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help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you  to learn in an academic and scientific methodology (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hink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verify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check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read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assist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you in order t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-Raise constructiv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-Actively participate in discu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meet</a:t>
            </a:r>
            <a:r>
              <a:rPr b="0" lang="en-US" sz="3000" spc="-1" strike="noStrike">
                <a:solidFill>
                  <a:srgbClr val="7030a0"/>
                </a:solidFill>
                <a:latin typeface="Constantia"/>
              </a:rPr>
              <a:t> you when you need me(in my offic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0720" y="1901880"/>
            <a:ext cx="8242560" cy="4402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62120" y="380880"/>
            <a:ext cx="73911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Participation in Meaning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شاركة الفاعلة في صناعة المع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E4AE-F482-49C5-B21B-9FE5738915EC}" type="datetime3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Maher ARAFAT,         arafatmy@najah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How to get an A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solidFill>
            <a:srgbClr val="009dd9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A  holistic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eparedness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futuristic/ultramodern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oactive/strategic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erformance/Conforman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forward look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life is hard.png"/>
          <p:cNvPicPr/>
          <p:nvPr/>
        </p:nvPicPr>
        <p:blipFill>
          <a:blip r:embed="rId1"/>
          <a:stretch/>
        </p:blipFill>
        <p:spPr>
          <a:xfrm>
            <a:off x="6288120" y="1695600"/>
            <a:ext cx="2570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Teaching / Learning Proces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914400" y="2382840"/>
            <a:ext cx="1371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Straight Arrow Connector 6" descr=""/>
          <p:cNvPicPr/>
          <p:nvPr/>
        </p:nvPicPr>
        <p:blipFill>
          <a:blip r:embed="rId1"/>
          <a:stretch/>
        </p:blipFill>
        <p:spPr>
          <a:xfrm>
            <a:off x="2951280" y="3889440"/>
            <a:ext cx="2906640" cy="5968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>
            <a:off x="6095880" y="2382840"/>
            <a:ext cx="1371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0"/>
          <p:cNvCxnSpPr/>
          <p:nvPr/>
        </p:nvCxnSpPr>
        <p:spPr>
          <a:xfrm flipH="1" flipV="1">
            <a:off x="2971800" y="3351960"/>
            <a:ext cx="2667240" cy="25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Flowchart: Multidocument 11"/>
          <p:cNvSpPr/>
          <p:nvPr/>
        </p:nvSpPr>
        <p:spPr>
          <a:xfrm>
            <a:off x="3048120" y="4419720"/>
            <a:ext cx="2209680" cy="1371600"/>
          </a:xfrm>
          <a:prstGeom prst="flowChartMultidocumen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lowchart: Sequential Access Storage 12"/>
          <p:cNvSpPr/>
          <p:nvPr/>
        </p:nvSpPr>
        <p:spPr>
          <a:xfrm>
            <a:off x="3505320" y="1981080"/>
            <a:ext cx="1523880" cy="1219320"/>
          </a:xfrm>
          <a:prstGeom prst="flowChartMagneticTap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895480" y="340668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-class 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713520" y="2000160"/>
            <a:ext cx="35748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6"/>
          <p:cNvSpPr/>
          <p:nvPr/>
        </p:nvSpPr>
        <p:spPr>
          <a:xfrm flipH="1">
            <a:off x="1785600" y="2071800"/>
            <a:ext cx="4287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7"/>
          <p:cNvSpPr/>
          <p:nvPr/>
        </p:nvSpPr>
        <p:spPr>
          <a:xfrm>
            <a:off x="1356480" y="1928880"/>
            <a:ext cx="716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8"/>
          <p:cNvSpPr/>
          <p:nvPr/>
        </p:nvSpPr>
        <p:spPr>
          <a:xfrm>
            <a:off x="6215040" y="2000160"/>
            <a:ext cx="2858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9"/>
          <p:cNvSpPr/>
          <p:nvPr/>
        </p:nvSpPr>
        <p:spPr>
          <a:xfrm flipH="1">
            <a:off x="6858000" y="1928880"/>
            <a:ext cx="71280" cy="714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0"/>
          <p:cNvSpPr/>
          <p:nvPr/>
        </p:nvSpPr>
        <p:spPr>
          <a:xfrm flipH="1">
            <a:off x="7429320" y="2071800"/>
            <a:ext cx="285480" cy="500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28584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>
            <a:off x="114300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>
            <a:off x="571500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1928880" y="17146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64380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7429680" y="17146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Quality-Education Equation QE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Rectangle 5" descr=""/>
          <p:cNvPicPr/>
          <p:nvPr/>
        </p:nvPicPr>
        <p:blipFill>
          <a:blip r:embed="rId1"/>
          <a:stretch/>
        </p:blipFill>
        <p:spPr>
          <a:xfrm>
            <a:off x="-146160" y="2792520"/>
            <a:ext cx="2517840" cy="115704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7" descr=""/>
          <p:cNvPicPr/>
          <p:nvPr/>
        </p:nvPicPr>
        <p:blipFill>
          <a:blip r:embed="rId2"/>
          <a:stretch/>
        </p:blipFill>
        <p:spPr>
          <a:xfrm>
            <a:off x="1579680" y="2798640"/>
            <a:ext cx="1352520" cy="11401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8" descr=""/>
          <p:cNvPicPr/>
          <p:nvPr/>
        </p:nvPicPr>
        <p:blipFill>
          <a:blip r:embed="rId3"/>
          <a:stretch/>
        </p:blipFill>
        <p:spPr>
          <a:xfrm>
            <a:off x="2097000" y="2792520"/>
            <a:ext cx="2401920" cy="115704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9" descr=""/>
          <p:cNvPicPr/>
          <p:nvPr/>
        </p:nvPicPr>
        <p:blipFill>
          <a:blip r:embed="rId4"/>
          <a:stretch/>
        </p:blipFill>
        <p:spPr>
          <a:xfrm>
            <a:off x="4151160" y="2755800"/>
            <a:ext cx="1354320" cy="11397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10" descr=""/>
          <p:cNvPicPr/>
          <p:nvPr/>
        </p:nvPicPr>
        <p:blipFill>
          <a:blip r:embed="rId5"/>
          <a:stretch/>
        </p:blipFill>
        <p:spPr>
          <a:xfrm>
            <a:off x="5181480" y="2925720"/>
            <a:ext cx="3475080" cy="88416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12"/>
          <p:cNvCxnSpPr/>
          <p:nvPr/>
        </p:nvCxnSpPr>
        <p:spPr>
          <a:xfrm>
            <a:off x="427680" y="2571840"/>
            <a:ext cx="14364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55" name="Straight Arrow Connector 13"/>
          <p:cNvCxnSpPr/>
          <p:nvPr/>
        </p:nvCxnSpPr>
        <p:spPr>
          <a:xfrm flipH="1">
            <a:off x="1141200" y="2499840"/>
            <a:ext cx="216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6" name="Straight Arrow Connector 14"/>
          <p:cNvCxnSpPr/>
          <p:nvPr/>
        </p:nvCxnSpPr>
        <p:spPr>
          <a:xfrm flipH="1">
            <a:off x="1642320" y="2571840"/>
            <a:ext cx="14364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7" name="Straight Arrow Connector 15"/>
          <p:cNvCxnSpPr/>
          <p:nvPr/>
        </p:nvCxnSpPr>
        <p:spPr>
          <a:xfrm flipH="1">
            <a:off x="3212280" y="2499840"/>
            <a:ext cx="25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8" name="Straight Arrow Connector 16"/>
          <p:cNvCxnSpPr/>
          <p:nvPr/>
        </p:nvCxnSpPr>
        <p:spPr>
          <a:xfrm>
            <a:off x="2570760" y="2571840"/>
            <a:ext cx="14364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9" name="Straight Arrow Connector 17"/>
          <p:cNvCxnSpPr/>
          <p:nvPr/>
        </p:nvCxnSpPr>
        <p:spPr>
          <a:xfrm flipH="1">
            <a:off x="3714480" y="2499840"/>
            <a:ext cx="7200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0" name="TextBox 23"/>
          <p:cNvSpPr/>
          <p:nvPr/>
        </p:nvSpPr>
        <p:spPr>
          <a:xfrm>
            <a:off x="357120" y="1785960"/>
            <a:ext cx="128592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Teach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5"/>
          <p:cNvSpPr/>
          <p:nvPr/>
        </p:nvSpPr>
        <p:spPr>
          <a:xfrm>
            <a:off x="142920" y="22147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857160" y="2224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2143080" y="22147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2928960" y="2224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1428840" y="22147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3500280" y="2224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4"/>
          <p:cNvSpPr/>
          <p:nvPr/>
        </p:nvSpPr>
        <p:spPr>
          <a:xfrm>
            <a:off x="2428920" y="1785960"/>
            <a:ext cx="135720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Lear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35" descr=""/>
          <p:cNvPicPr/>
          <p:nvPr/>
        </p:nvPicPr>
        <p:blipFill>
          <a:blip r:embed="rId6"/>
          <a:stretch/>
        </p:blipFill>
        <p:spPr>
          <a:xfrm>
            <a:off x="6102360" y="152388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6" descr=""/>
          <p:cNvPicPr/>
          <p:nvPr/>
        </p:nvPicPr>
        <p:blipFill>
          <a:blip r:embed="rId7"/>
          <a:stretch/>
        </p:blipFill>
        <p:spPr>
          <a:xfrm>
            <a:off x="6046920" y="4286160"/>
            <a:ext cx="2049480" cy="882720"/>
          </a:xfrm>
          <a:prstGeom prst="rect">
            <a:avLst/>
          </a:prstGeom>
          <a:ln w="0">
            <a:noFill/>
          </a:ln>
        </p:spPr>
      </p:pic>
      <p:cxnSp>
        <p:nvCxnSpPr>
          <p:cNvPr id="270" name="Straight Arrow Connector 37"/>
          <p:cNvCxnSpPr/>
          <p:nvPr/>
        </p:nvCxnSpPr>
        <p:spPr>
          <a:xfrm flipH="1" flipV="1">
            <a:off x="1142640" y="3928680"/>
            <a:ext cx="216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1" name="Straight Arrow Connector 39"/>
          <p:cNvCxnSpPr/>
          <p:nvPr/>
        </p:nvCxnSpPr>
        <p:spPr>
          <a:xfrm flipV="1">
            <a:off x="3213720" y="3928680"/>
            <a:ext cx="108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72" name="TextBox 43"/>
          <p:cNvSpPr/>
          <p:nvPr/>
        </p:nvSpPr>
        <p:spPr>
          <a:xfrm>
            <a:off x="2357280" y="4497480"/>
            <a:ext cx="24289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Learn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Learne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4"/>
          <p:cNvSpPr/>
          <p:nvPr/>
        </p:nvSpPr>
        <p:spPr>
          <a:xfrm>
            <a:off x="285840" y="4500720"/>
            <a:ext cx="18478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Organizational Support,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421488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harder the conflict the more glorious the triumph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omas Paine  1776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4" descr="little chalenge.jpg"/>
          <p:cNvPicPr/>
          <p:nvPr/>
        </p:nvPicPr>
        <p:blipFill>
          <a:blip r:embed="rId1"/>
          <a:stretch/>
        </p:blipFill>
        <p:spPr>
          <a:xfrm>
            <a:off x="3511440" y="225360"/>
            <a:ext cx="5486400" cy="4425840"/>
          </a:xfrm>
          <a:prstGeom prst="rect">
            <a:avLst/>
          </a:prstGeom>
          <a:ln w="0">
            <a:noFill/>
          </a:ln>
        </p:spPr>
      </p:pic>
      <p:sp>
        <p:nvSpPr>
          <p:cNvPr id="276" name="Snip Diagonal Corner Rectangle 3"/>
          <p:cNvSpPr/>
          <p:nvPr/>
        </p:nvSpPr>
        <p:spPr>
          <a:xfrm>
            <a:off x="142920" y="1428840"/>
            <a:ext cx="3429000" cy="21430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 not us, … 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not now, …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ontent Placeholder 2"/>
          <p:cNvSpPr/>
          <p:nvPr/>
        </p:nvSpPr>
        <p:spPr>
          <a:xfrm>
            <a:off x="1243080" y="2357280"/>
            <a:ext cx="5900760" cy="3214800"/>
          </a:xfrm>
          <a:prstGeom prst="rect">
            <a:avLst/>
          </a:prstGeom>
          <a:solidFill>
            <a:srgbClr val="0070c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-Najah National Univers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ew Camp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aculty of I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ept. of M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floor, Room 2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000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her Y. ARAF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928520"/>
            <a:ext cx="8715600" cy="414324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I welcome you all i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Verdana"/>
              </a:rPr>
              <a:t>M</a:t>
            </a:r>
            <a:r>
              <a:rPr b="0" lang="en-US" sz="3800" spc="-1" strike="noStrike">
                <a:solidFill>
                  <a:srgbClr val="7030a0"/>
                </a:solidFill>
                <a:latin typeface="Verdana"/>
                <a:ea typeface="Verdana"/>
              </a:rPr>
              <a:t>anage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Verdana"/>
              </a:rPr>
              <a:t>I</a:t>
            </a:r>
            <a:r>
              <a:rPr b="0" lang="en-US" sz="3800" spc="-1" strike="noStrike">
                <a:solidFill>
                  <a:srgbClr val="7030a0"/>
                </a:solidFill>
                <a:latin typeface="Verdana"/>
                <a:ea typeface="Verdana"/>
              </a:rPr>
              <a:t>nfo.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Verdana"/>
              </a:rPr>
              <a:t>S</a:t>
            </a:r>
            <a:r>
              <a:rPr b="0" lang="en-US" sz="3800" spc="-1" strike="noStrike">
                <a:solidFill>
                  <a:srgbClr val="7030a0"/>
                </a:solidFill>
                <a:latin typeface="Verdana"/>
                <a:ea typeface="Verdana"/>
              </a:rPr>
              <a:t>ystems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  <a:ea typeface="Verdana"/>
              </a:rPr>
              <a:t>(Managing the digital Firm)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  <a:ea typeface="Verdana"/>
              </a:rPr>
              <a:t>For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Faculty of En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Industtrial Eng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this course is important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to you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040" y="2142720"/>
            <a:ext cx="82152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Verdana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Verdan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642960" y="55008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lif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s,  IT, Language,  thinking, learning, self directe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ers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twinning.gif"/>
          <p:cNvPicPr/>
          <p:nvPr/>
        </p:nvPicPr>
        <p:blipFill>
          <a:blip r:embed="rId1"/>
          <a:stretch/>
        </p:blipFill>
        <p:spPr>
          <a:xfrm>
            <a:off x="6500880" y="2357280"/>
            <a:ext cx="236844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STD-cla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Tahoma"/>
                <a:ea typeface="Arial Unicode MS"/>
              </a:rPr>
              <a:t>Has anything changed ?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17480" y="500040"/>
            <a:ext cx="8218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428760"/>
            <a:ext cx="89424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ilding Wisd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Content Placeholder 3" descr="Building Wisdom.bmp"/>
          <p:cNvPicPr/>
          <p:nvPr/>
        </p:nvPicPr>
        <p:blipFill>
          <a:blip r:embed="rId1"/>
          <a:stretch/>
        </p:blipFill>
        <p:spPr>
          <a:xfrm>
            <a:off x="285840" y="1090440"/>
            <a:ext cx="850104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4200" y="2000160"/>
            <a:ext cx="8429760" cy="3571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responsibility to lear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Principle of “Learning by Doing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structionist Methodolog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dependent learner, (Autonomy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llaborative and interactive learn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794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Educational Philoso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20:56:52Z</dcterms:created>
  <dc:creator>Maher ARAFAT</dc:creator>
  <dc:description/>
  <dc:language>en-US</dc:language>
  <cp:lastModifiedBy>maher</cp:lastModifiedBy>
  <dcterms:modified xsi:type="dcterms:W3CDTF">2010-02-01T09:28:41Z</dcterms:modified>
  <cp:revision>16</cp:revision>
  <dc:subject/>
  <dc:title>Management Information Systems</dc:title>
</cp:coreProperties>
</file>